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D89-DDBA-453B-93DD-850A4774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807-DB26-454C-BB56-FAF017B0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1D8-0D7C-497B-B184-B05B26D9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DF3-9655-4801-8EE4-BDAAAF67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634-B48C-4FF2-8830-33A1FDEB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D02-A158-4DF8-892A-78836788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6AF-C01C-48CA-98CD-50AE1A8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AAD-3F36-4261-8DFB-3C6EF1C3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99B-7B06-40D8-B485-8781090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6BE-0570-4BDC-94F0-D5AA1099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016-2B88-4B33-A4E1-A8D640E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72E-A2BB-4912-AD5E-A912C38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E1CD-DD9F-44C0-B0FD-9E8BEF9A53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3400" y="914400"/>
            <a:ext cx="6022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Mat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hind the Ra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0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81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10280" y="57913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62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2:10Z</dcterms:modified>
  <cp:revision>218</cp:revision>
  <dc:subject/>
  <dc:title>Slide 1</dc:title>
</cp:coreProperties>
</file>